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5EF11-3E5F-48CB-946F-8644A62F7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C71D7-E234-4AC4-B874-CFE79BAE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EC72F-74A3-4F62-840F-69DDF342D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3BF79-7BD6-47EC-8A94-F524BC69E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3684-59D5-4F34-A634-577918831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F8C7-9048-43F8-BF39-E8D7A4FF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D19E-6DBA-461C-8B8A-BCECA78B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627F-62EF-450A-8FEE-A414D405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F110-9E56-4687-A561-AED433FC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F968-297D-4502-9BAB-FF28B12C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C710-80DB-4D85-BE66-9E8555CA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17A80-49C0-4366-890C-F92D56DF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3FFB-7F5C-4475-AC77-087EFDF2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68D8-B4CB-4887-A7F4-D87D0E21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7E08-1069-4A48-8506-CF193353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9B3E-54BB-4E41-85F5-96A398318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C8CD-1D04-4B3D-BA4F-5E6F2E608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0B8CA-05F8-4DBF-8AA1-4B884AE1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F05E1-D638-46CB-AAEC-FEF45D08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D0E4F-A1A5-4B72-A572-5CE52DA8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5179D-6DAE-4FDC-BE77-079D921D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3A703-B218-4DF0-90B4-C0318B9D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D1C0C-F9BA-4490-BF8F-C9633EFD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CE41D-23A2-4005-A282-D4692264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D658-ACA4-4514-97D1-D090A6FED3E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32D3-7D8E-474D-B024-2605638B954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350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ffcc"/>
                </a:solidFill>
                <a:latin typeface="Tahoma"/>
              </a:rPr>
              <a:t>POLICE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ahoma"/>
              </a:rPr>
              <a:t>5E HAS BEEN LEARNING ABOUT POLICE By Camer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916360" y="692280"/>
            <a:ext cx="2735280" cy="1871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042920" y="836640"/>
            <a:ext cx="1575000" cy="244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867280" y="836640"/>
            <a:ext cx="272412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ffffcc"/>
                </a:solidFill>
                <a:latin typeface="Tahoma"/>
              </a:rPr>
              <a:t>What police dogs can do.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he police dogs can jump super hig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he also have a hard bi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hey have to be trained to figh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619280" y="3860640"/>
            <a:ext cx="1785960" cy="2503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356000" y="3860640"/>
            <a:ext cx="203544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ffffcc"/>
                </a:solidFill>
                <a:latin typeface="Tahoma"/>
              </a:rPr>
              <a:t>Pictures of te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103640" cy="4537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381636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ffffcc"/>
                </a:solidFill>
                <a:latin typeface="Tahoma"/>
              </a:rPr>
              <a:t>Weapon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hese are police weapons a baton, hand cuffs, Swiss army knife, pepper spray, taser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39640" y="3213000"/>
            <a:ext cx="2644920" cy="27878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443640" y="3141720"/>
            <a:ext cx="2449440" cy="2736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3492360" y="3573360"/>
            <a:ext cx="266400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ffffcc"/>
                </a:solidFill>
                <a:latin typeface="Tahoma"/>
              </a:rPr>
              <a:t>Roles of police.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raffic offic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Dispatch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Dog Handl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Crime scen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here’s also a s.w.a.t team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64000" y="1557360"/>
            <a:ext cx="2737080" cy="22017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867280" y="4149720"/>
            <a:ext cx="187344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ffffcc"/>
                </a:solidFill>
                <a:latin typeface="Tahoma"/>
              </a:rPr>
              <a:t>Pictures of poli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he end !!!!!!!!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8360" y="2924280"/>
            <a:ext cx="2303280" cy="32176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916360" y="3068640"/>
            <a:ext cx="1822320" cy="3087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859280" y="3573360"/>
            <a:ext cx="352908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02:14:41Z</dcterms:created>
  <dc:creator>5e10</dc:creator>
  <dc:description/>
  <dc:language>en-US</dc:language>
  <cp:lastModifiedBy>5e10</cp:lastModifiedBy>
  <dcterms:modified xsi:type="dcterms:W3CDTF">2011-09-06T23:45:57Z</dcterms:modified>
  <cp:revision>5</cp:revision>
  <dc:subject/>
  <dc:title>POLICE</dc:title>
</cp:coreProperties>
</file>